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91CF-8079-420B-AF2F-B2E7D03C6B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8001-4929-4C0F-8623-7324F23FF0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0DCE0-1252-4B82-8FD9-FEAF7BE50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114DB-B8EF-4EA4-9084-E27FA5A33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7A471-2643-45CD-BD16-624C23151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BDDC3-5876-473A-9E50-EDBF67EF8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238F0A-2487-4392-A219-68F6DF725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5CB6B-CF8B-488B-8A0A-53990DC8A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D7B2B-EE3A-40EF-9EAF-2FAE6B9D1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7C231-78FF-4A57-AB5B-5B26D6EFB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B2F1C-AC95-4481-A264-B1D214F35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DCFDB-5099-495B-8A96-C516CFE46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2F28D-E495-4B6B-84DD-DFBB3C0FD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3AF30-DD5B-47AB-BE76-517442943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4E6B9-406A-423E-B0A2-8A8F43B12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6CD7F-2671-486D-8003-2A5D2C1B4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BF825-4630-45D9-97B0-CA62554B0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996240-2320-4EEB-9C0C-1321DA2B1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99BE56-F313-47D8-AAD1-264677ADFE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CE9584-323E-4570-A2CE-E599625E39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386509-B371-4379-97E9-06AA3A501F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26CFB8-5F1E-48AD-8C9D-530241180B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B69A8E-C5AC-4C85-B239-1C15E726D8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0FA281-46C8-4EAC-A72B-EB47E955A0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4ED55-06A7-41B5-AD21-7E68B6FEC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30709D-1D69-41D3-9853-B21D3A7250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689721-010A-4133-A6BB-6D04BDE6E6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561284-2DBC-429C-B861-22C5ABAFA7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118346-5857-4453-8622-E26E94A994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6896DC-0860-4692-9736-D243F3795B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E432D5-690A-411B-8534-84F910F79E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EB0128-20E0-4D27-9206-6D0A44D0C0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A5FB30-D03A-4EFF-BD19-36B44DCBA9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B1FAF5-AC8C-48DB-9823-6D5D36C0AD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66ED78-8409-4512-92FA-2C7394C28A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FA24E-EC90-4201-953D-CF3579E11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E7338D-5427-4192-9008-D8076827D0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380362-6D86-4FE0-B80E-31FE5A5AA5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539C3D-6B1C-4A36-A987-66E024E89D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2C0CBF-1CE7-4618-BE27-96C96C4D73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E023F5-8B91-4FF1-8076-A7ACC31EA6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796951-2049-4CF6-A9A3-00BABF9E0A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FBC88D-9E63-4AF7-88BB-12F8FBFE9D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CDB353-5508-48CC-9177-BA14DDA75C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757F00-9033-4778-B682-D124A8904F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3CD178-10E7-4359-84E7-EBD8B2B793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9F009-73A0-4136-9101-38DDA428A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F0B0CE-3EF3-4A4E-8BB0-ED63E05FC2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69BA29-0C42-4E62-BDBD-4E19B9255F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1D8FFE-0DA3-498B-8557-9D2CC25F85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927E64-0258-42BE-9942-57B62A3C23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29FE0D-B4D3-46C4-8D0B-9059A1A3BE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3632EA-05A7-4DF6-B1CC-018751E2B0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362453-8A13-418E-B74E-1E6D6396A5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8E7764-DFA9-458D-AEB9-29667AE399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0BE0AE-5BA8-4715-A1BD-E37D1BA7A8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59F9B8-FABD-4FE7-AA8D-D52ADF78E0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CF95C-4293-465A-AD1D-D67CF01D1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642E10-2D54-4F72-A822-D305258307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61225F-A9C3-4174-9A2C-62C41D9971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3760FB-CC0F-4860-93DF-80710AD748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DCEB98-0AAF-418A-AB23-92C034FB08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31DEF9-56AE-4CF5-8736-E8FB5F116B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0945FB-93C0-426D-B632-26E6FC9ABF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AC31CE-B982-4CD5-9EDC-4F2D164B65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2EA011-5DBF-40E0-8783-BBC0BDD136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E67E11-D113-4A61-BE14-9D564B8D1F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6F67EE-6E1C-4067-848B-288AF7D750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5AEDE-C56A-4880-8001-34176670E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8E6578-BC21-497D-AD76-3A1524866A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1A6A51-0610-4E6A-B603-8FF854E739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C123AB-E8EC-4C8D-A6D2-558F7209DE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CBD83C-B613-4290-9DD2-7AF4D40E60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8656FD-C8D9-4AD8-A6CA-E11B074139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E0B305-B762-4F66-A8A4-5D89EB49D1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98F7A5-DEC5-4E68-9683-1AFD18ED51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C03A93-C317-4178-AC12-7324A9BC7A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C14557-DFF5-4231-AE6F-102951267A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81859F-AADC-4E08-AF78-3C7086331D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3D90E-8074-4A6A-9003-1FC2C0B8D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B2FBDF-E26E-47F2-B2A5-AE352AB7A1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0D2064-7D8A-4943-9265-F21207AF81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27C8D2-0FB9-475E-927B-4C9EAF02CD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3D9FD6-B035-48E7-8FD9-18AC24B5BA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457B6A-931A-4ADC-BFCA-F8B9FDD0AC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DA3ADD-3D8F-4B67-9F31-8B4AD3BCE6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36BA24-36D6-48E3-8729-D2374E3778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A19C53-4CA2-47D7-8434-DE055C4299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DFE194-6A7C-413D-A1C8-FD383A4867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14CE69-8A26-4A5F-B7FB-B243F09EAF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3FC05-575B-4B98-9895-47C5B48ED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AA1ED9-81F9-4088-9084-7D044FA6E4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B59618-5FC3-4834-888B-BCE6474991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0A79AC-D252-4B34-9311-D63A1E1F53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E40D65-733B-484D-8784-8B2F949A73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C4C9E5-A336-4351-A7D4-FD1FEE4CA1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E3F5E7-F66A-4B83-A9F7-72E7923EE3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CE2EE4-B959-4CED-BDEF-207810048C4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FE9A-E946-405F-AD5A-513DF6C7AF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CE17-DAA3-492C-93F5-B327DD64F9F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440B-6931-4E26-9F19-9AE213D015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5591-799D-4D6D-8C0F-D26710C835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308F-938D-46F7-99BF-E62387F098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3EA1-337B-46F7-914C-7539BCFD1E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9269-3458-48C8-9E95-4FC66B7039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4590-9915-4706-862B-E480E9F831E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228600" y="761760"/>
            <a:ext cx="8686800" cy="60958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Lucida Sans Unicode"/>
              </a:rPr>
              <a:t> </a:t>
            </a:r>
            <a:r>
              <a:rPr b="1" lang="en-US" sz="1700" spc="-1" strike="noStrike">
                <a:solidFill>
                  <a:srgbClr val="000000"/>
                </a:solidFill>
                <a:latin typeface="Lucida Sans Unicode"/>
              </a:rPr>
              <a:t>A</a:t>
            </a:r>
            <a:r>
              <a:rPr b="1" lang="id-ID" sz="1700" spc="-1" strike="noStrike">
                <a:solidFill>
                  <a:srgbClr val="000000"/>
                </a:solidFill>
                <a:latin typeface="Lucida Sans Unicode"/>
              </a:rPr>
              <a:t>pakah yang disebut dengan nasionalisme</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Lucida Sans Unicode"/>
              </a:rPr>
              <a:t>Sebut dan jelaskan f</a:t>
            </a:r>
            <a:r>
              <a:rPr b="1" lang="id-ID" sz="1700" spc="-1" strike="noStrike">
                <a:solidFill>
                  <a:srgbClr val="000000"/>
                </a:solidFill>
                <a:latin typeface="Lucida Sans Unicode"/>
              </a:rPr>
              <a:t>aktor </a:t>
            </a:r>
            <a:r>
              <a:rPr b="1" lang="en-US" sz="1700" spc="-1" strike="noStrike">
                <a:solidFill>
                  <a:srgbClr val="000000"/>
                </a:solidFill>
                <a:latin typeface="Lucida Sans Unicode"/>
              </a:rPr>
              <a:t>p</a:t>
            </a:r>
            <a:r>
              <a:rPr b="1" lang="id-ID" sz="1700" spc="-1" strike="noStrike">
                <a:solidFill>
                  <a:srgbClr val="000000"/>
                </a:solidFill>
                <a:latin typeface="Lucida Sans Unicode"/>
              </a:rPr>
              <a:t>endorong </a:t>
            </a:r>
            <a:r>
              <a:rPr b="1" lang="en-US" sz="1700" spc="-1" strike="noStrike">
                <a:solidFill>
                  <a:srgbClr val="000000"/>
                </a:solidFill>
                <a:latin typeface="Lucida Sans Unicode"/>
              </a:rPr>
              <a:t>m</a:t>
            </a:r>
            <a:r>
              <a:rPr b="1" lang="id-ID" sz="1700" spc="-1" strike="noStrike">
                <a:solidFill>
                  <a:srgbClr val="000000"/>
                </a:solidFill>
                <a:latin typeface="Lucida Sans Unicode"/>
              </a:rPr>
              <a:t>unculnya Pergerakan Kebangsaan</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Lucida Sans Unicode"/>
              </a:rPr>
              <a:t>Sebut dan jelaskan p</a:t>
            </a:r>
            <a:r>
              <a:rPr b="1" lang="id-ID" sz="1700" spc="-1" strike="noStrike">
                <a:solidFill>
                  <a:srgbClr val="000000"/>
                </a:solidFill>
                <a:latin typeface="Lucida Sans Unicode"/>
              </a:rPr>
              <a:t>erbedaan </a:t>
            </a:r>
            <a:r>
              <a:rPr b="1" lang="en-US" sz="1700" spc="-1" strike="noStrike">
                <a:solidFill>
                  <a:srgbClr val="000000"/>
                </a:solidFill>
                <a:latin typeface="Lucida Sans Unicode"/>
              </a:rPr>
              <a:t>p</a:t>
            </a:r>
            <a:r>
              <a:rPr b="1" lang="id-ID" sz="1700" spc="-1" strike="noStrike">
                <a:solidFill>
                  <a:srgbClr val="000000"/>
                </a:solidFill>
                <a:latin typeface="Lucida Sans Unicode"/>
              </a:rPr>
              <a:t>erjuangan bangsa Indonesia seb</a:t>
            </a:r>
            <a:r>
              <a:rPr b="1" lang="en-US" sz="1700" spc="-1" strike="noStrike">
                <a:solidFill>
                  <a:srgbClr val="000000"/>
                </a:solidFill>
                <a:latin typeface="Lucida Sans Unicode"/>
              </a:rPr>
              <a:t>e</a:t>
            </a:r>
            <a:r>
              <a:rPr b="1" lang="id-ID" sz="1700" spc="-1" strike="noStrike">
                <a:solidFill>
                  <a:srgbClr val="000000"/>
                </a:solidFill>
                <a:latin typeface="Lucida Sans Unicode"/>
              </a:rPr>
              <a:t>lum tahun 1908 dan </a:t>
            </a:r>
            <a:r>
              <a:rPr b="1" lang="en-US" sz="1700" spc="-1" strike="noStrike">
                <a:solidFill>
                  <a:srgbClr val="000000"/>
                </a:solidFill>
                <a:latin typeface="Lucida Sans Unicode"/>
              </a:rPr>
              <a:t>s</a:t>
            </a:r>
            <a:r>
              <a:rPr b="1" lang="id-ID" sz="1700" spc="-1" strike="noStrike">
                <a:solidFill>
                  <a:srgbClr val="000000"/>
                </a:solidFill>
                <a:latin typeface="Lucida Sans Unicode"/>
              </a:rPr>
              <a:t>esudah tahun 1908</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700" spc="-1" strike="noStrike">
                <a:solidFill>
                  <a:srgbClr val="000000"/>
                </a:solidFill>
                <a:latin typeface="Lucida Sans Unicode"/>
              </a:rPr>
              <a:t>Lahirnya kebangkitan nasional ditandai dengan munculnya organisasi pergerakan nasional yang bersifat modern, rapi, dan teratur. </a:t>
            </a:r>
            <a:r>
              <a:rPr b="1" lang="en-US" sz="1700" spc="-1" strike="noStrike">
                <a:solidFill>
                  <a:srgbClr val="000000"/>
                </a:solidFill>
                <a:latin typeface="Lucida Sans Unicode"/>
              </a:rPr>
              <a:t>Nah, sebutkan ciri-ciri dari o</a:t>
            </a:r>
            <a:r>
              <a:rPr b="1" lang="id-ID" sz="1700" spc="-1" strike="noStrike">
                <a:solidFill>
                  <a:srgbClr val="000000"/>
                </a:solidFill>
                <a:latin typeface="Lucida Sans Unicode"/>
              </a:rPr>
              <a:t>rganisasi modern </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Lucida Sans Unicode"/>
              </a:rPr>
              <a:t>Walaupun pada awalnya bukan organisasi Budi Utomo bukan organisasi yang bersifat nasional, namun hari jadi organisasi Budi Utomo dijadikan sebagai Hari Kebangkitan Nasional Indonesia. Mengapa demikian ? Jelaskan !</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Lucida Sans Unicode"/>
              </a:rPr>
              <a:t>Sebut dan berikan penjelasan organisasi yang bertujuan untuk menghidupkan dan menggerakkan kegiatan ekonomi pribumi dengan memajukan perdagangan.</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Lucida Sans Unicode"/>
              </a:rPr>
              <a:t>Sebut dan berikan penjelasan </a:t>
            </a:r>
            <a:r>
              <a:rPr b="1" lang="en-US" sz="1700" spc="-1" strike="noStrike">
                <a:solidFill>
                  <a:srgbClr val="000000"/>
                </a:solidFill>
                <a:latin typeface="Lucida Sans Unicode"/>
              </a:rPr>
              <a:t>organisasi pergerakan atau partai politik, yang pertama muncul di Indonesia</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Lucida Sans Unicode"/>
              </a:rPr>
              <a:t>Sebut dan berikan penjelasan organisasi yang </a:t>
            </a:r>
            <a:r>
              <a:rPr b="1" lang="en-US" sz="1700" spc="-1" strike="noStrike">
                <a:solidFill>
                  <a:srgbClr val="000000"/>
                </a:solidFill>
                <a:latin typeface="Lucida Sans Unicode"/>
              </a:rPr>
              <a:t>merupakan organisasi reformis di bidang sosial keagamaan  di Indonesia</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Lucida Sans Unicode"/>
              </a:rPr>
              <a:t>Sebut dan berikan penjelasan </a:t>
            </a:r>
            <a:r>
              <a:rPr b="1" lang="en-US" sz="1700" spc="-1" strike="noStrike">
                <a:solidFill>
                  <a:srgbClr val="000000"/>
                </a:solidFill>
                <a:latin typeface="Lucida Sans Unicode"/>
              </a:rPr>
              <a:t>organisasi pergerakan nasional Indonesia paling awal, yang melakukan aktivitasnya di luar negeri</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Lucida Sans Unicode"/>
              </a:rPr>
              <a:t>Pada puncak acara Kongres Pemuda II, diikrarkan sebuah resolusi atau putusan kongres yang naskahnya dirumuskan oleh Muh. Yamin. Rumusan tersebut kemudian dikenal dengan Sumpah Pemuda. Apa bunyi sumpah pemuda dan apa </a:t>
            </a:r>
            <a:r>
              <a:rPr b="1" lang="fi-FI" sz="1700" spc="-1" strike="noStrike">
                <a:solidFill>
                  <a:srgbClr val="000000"/>
                </a:solidFill>
                <a:latin typeface="Lucida Sans Unicode"/>
              </a:rPr>
              <a:t>Pelajaran dari Gagasan Persatuan dan Kesatuan Bangsa yang telah dicetuskan para pemuda tersebut?</a:t>
            </a:r>
            <a:endParaRPr b="0" lang="en-US" sz="1700" spc="-1" strike="noStrike">
              <a:solidFill>
                <a:srgbClr val="000000"/>
              </a:solidFill>
              <a:latin typeface="Lucida Sans Unicode"/>
            </a:endParaRPr>
          </a:p>
        </p:txBody>
      </p:sp>
      <p:pic>
        <p:nvPicPr>
          <p:cNvPr id="378" name="Title 1" descr=""/>
          <p:cNvPicPr/>
          <p:nvPr/>
        </p:nvPicPr>
        <p:blipFill>
          <a:blip r:embed="rId1"/>
          <a:stretch/>
        </p:blipFill>
        <p:spPr>
          <a:xfrm>
            <a:off x="128520" y="79200"/>
            <a:ext cx="8796240" cy="74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3T13:26:02Z</dcterms:created>
  <dc:creator>Valued Acer Customer</dc:creator>
  <dc:description/>
  <dc:language>en-US</dc:language>
  <cp:lastModifiedBy>Valued Acer Customer</cp:lastModifiedBy>
  <dcterms:modified xsi:type="dcterms:W3CDTF">2013-10-23T15:10:43Z</dcterms:modified>
  <cp:revision>2</cp:revision>
  <dc:subject/>
  <dc:title>POKOK POKOK DISKUSI KELOMPOK PERGERAKAN KEBANGSAAN INDONESIA</dc:title>
</cp:coreProperties>
</file>